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C8D-B84C-431F-B439-5530898F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D1D0-E393-45BC-A89D-41B97884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E64-F327-440E-BEFA-2BE85483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4615-AF95-429B-A6FA-D62AAA7C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60E5-42C4-4DCA-B6EB-263A36BE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0726-9E9C-4382-8974-A995AB97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19E-66F7-46B8-A63E-3B79CE3D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9AD-0FC8-472B-822D-A4D2D27A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A6F9-9BC7-46A6-A4A7-FBE6637F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688-228C-4D27-922A-BE8C8FC1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A543-6DA0-4989-8B66-7E7892E7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438-4885-4292-8ED2-F1C76E9F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F86A-0BA0-43D3-BE44-061333EB6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762120"/>
            <a:ext cx="327636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708240" y="4800600"/>
            <a:ext cx="98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32767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8200" y="312408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1905120"/>
            <a:ext cx="763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6040" y="182880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990720"/>
            <a:ext cx="4191120" cy="23619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68960" y="2590920"/>
            <a:ext cx="355320" cy="228600"/>
          </a:xfrm>
          <a:custGeom>
            <a:avLst/>
            <a:gdLst/>
            <a:ahLst/>
            <a:rect l="l" t="t" r="r" b="b"/>
            <a:pathLst>
              <a:path w="224" h="144">
                <a:moveTo>
                  <a:pt x="224" y="0"/>
                </a:moveTo>
                <a:cubicBezTo>
                  <a:pt x="144" y="12"/>
                  <a:pt x="64" y="24"/>
                  <a:pt x="32" y="48"/>
                </a:cubicBezTo>
                <a:cubicBezTo>
                  <a:pt x="0" y="72"/>
                  <a:pt x="32" y="128"/>
                  <a:pt x="32" y="144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7640" y="236232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azim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1981080"/>
            <a:ext cx="3962520" cy="12956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9040" y="259092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25960" y="2311560"/>
            <a:ext cx="355320" cy="35532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32"/>
                </a:moveTo>
                <a:cubicBezTo>
                  <a:pt x="144" y="16"/>
                  <a:pt x="64" y="0"/>
                  <a:pt x="32" y="32"/>
                </a:cubicBezTo>
                <a:cubicBezTo>
                  <a:pt x="0" y="64"/>
                  <a:pt x="16" y="144"/>
                  <a:pt x="32" y="224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3080" y="220968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Times New Roman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876920" y="3352680"/>
            <a:ext cx="457200" cy="8384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4680" y="380988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al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295280" y="12193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600200" y="99036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1981080"/>
            <a:ext cx="358164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371600" y="990360"/>
            <a:ext cx="20574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54280" y="1066680"/>
            <a:ext cx="165240" cy="228600"/>
          </a:xfrm>
          <a:custGeom>
            <a:avLst/>
            <a:gdLst/>
            <a:ahLst/>
            <a:rect l="l" t="t" r="r" b="b"/>
            <a:pathLst>
              <a:path w="104" h="144">
                <a:moveTo>
                  <a:pt x="56" y="0"/>
                </a:moveTo>
                <a:cubicBezTo>
                  <a:pt x="28" y="36"/>
                  <a:pt x="0" y="72"/>
                  <a:pt x="8" y="96"/>
                </a:cubicBezTo>
                <a:cubicBezTo>
                  <a:pt x="16" y="120"/>
                  <a:pt x="88" y="136"/>
                  <a:pt x="104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6560" y="11430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ross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21480" y="137160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3240" y="160020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8280" y="416088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(crossPoint)/a = 1/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1400" y="4495680"/>
            <a:ext cx="174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(elevation)/a = 1/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4840" y="5638680"/>
            <a:ext cx="140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^2 = a^2 + f^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5160" y="8380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3600" y="182880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640" y="350532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(90)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4840" y="525780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(azimuth)/b = 1/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0080" y="487692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^2 = a^2 + b^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53560" y="47084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13760" y="4746600"/>
            <a:ext cx="1878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n(crossPoint) = a/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= sin(elevation) 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 = sqrt(a^2 + b^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 = sin(azimuth)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 = sqrt(range^2  - a^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6:49:49Z</dcterms:created>
  <dc:creator>Al Globus</dc:creator>
  <dc:description/>
  <dc:language>en-US</dc:language>
  <cp:lastModifiedBy>Al Globus</cp:lastModifiedBy>
  <dcterms:modified xsi:type="dcterms:W3CDTF">2003-10-10T19:02:07Z</dcterms:modified>
  <cp:revision>7</cp:revision>
  <dc:subject/>
  <dc:title>PowerPoint Presentation</dc:title>
</cp:coreProperties>
</file>